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4773-9844-414B-BECB-230C01BE1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B19B-0ECC-4CEC-B025-E5055DC03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8585-20BB-4DAB-BEE6-B574AAD24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209A-60B9-433D-9121-05D9E01CD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C204-59A5-45CE-A65B-60D2328F7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4FE1-42B6-4EF6-9EEA-FE0698AF4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3CAA-5247-4A18-B58C-94195C429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8361-0036-43BD-A257-BE5055E32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5A0D-D8F3-44A4-9481-765B2CD47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5BBD-2416-445D-9484-F9C66D952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31C2-DC61-45BE-B825-69F2109ED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C6A9-8141-48AF-BBE9-3DB31E7EB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0E885-7BE6-4BB7-B8F0-8A52EC3698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nivers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 Carly Be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Planets diffe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ght yea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fe cycl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stellat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s for watch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ight and D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ason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lar eclips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alax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lky Way Galax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teroids and com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6T18:00:15Z</dcterms:created>
  <dc:creator>Carly Bee</dc:creator>
  <dc:description/>
  <dc:language>en-US</dc:language>
  <cp:lastModifiedBy> </cp:lastModifiedBy>
  <dcterms:modified xsi:type="dcterms:W3CDTF">2012-03-19T18:13:42Z</dcterms:modified>
  <cp:revision>4</cp:revision>
  <dc:subject/>
  <dc:title>Universe</dc:title>
</cp:coreProperties>
</file>